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FBC-0E74-425F-B010-94F81634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243-9663-4FA8-B8BD-C32C7359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12113-AF33-4420-900F-B889542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4561E-8ACF-4ADF-8327-CAC62713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0D3CD-8285-410C-98D0-ECF9CE0C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2A4F3-5E94-4F7F-8642-C6C24589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44759-164A-47EB-B531-CB0B7B8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84AB2-7A59-4F03-BFDB-1357BD66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012CB-0A21-40ED-9868-DD3A7251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1DA52-AAE8-4D16-BD80-C3705E9A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907CB-AA5D-4E1E-BC85-CD62A7A5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2C5EF-8551-4D77-9EA0-2F99CEC0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BB6-6C5B-4E19-B361-242C55E0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559C6-4D41-4878-A103-ED449CB6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CC658-04C6-49F8-B299-0D3C8BFD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484BD-2A51-483E-B296-11AF0A49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208C9-78B5-44C8-8E2C-E9485DD4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3BF02-F0DC-4CF5-AC7F-7BDE0A6F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9DE81-C5B6-4829-9CB3-1164D2D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BA1B1-4D16-4CE3-B0D0-DBB308E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7DA87-1921-4FA8-B761-A46D61A7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C9F28-C2DB-47FB-A97D-7D465C81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93620-E695-4766-8153-7A66B7F2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194-5EBF-4ED5-9F19-D7C4299C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FCC6E-6AFF-40B0-A1B8-143BB89E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5DE9-2F91-4131-9662-D5211DC3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33E0C-E6BE-46FE-BE5F-E5EA3639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9301D-CCCA-41B8-9305-7863117F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D09E0-B732-4DA8-84A4-10B19E3A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9647A-9FD7-4272-8880-D3309119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9659B-9D45-4373-BFA5-ABF00D13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749E-BFF3-473E-972F-4806F1F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2E46A-B213-4D2D-AB43-A2C99601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EF9C3-9B8F-4446-AF58-FF03470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CDB0-B4F6-4309-9291-E45DFBAA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C9455-0713-4993-B58C-9E1E33AF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45B9E-D644-453C-B6E2-9C0DC11F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BB323-2DED-4205-A6E8-D61C9859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97A03-0D7D-44C1-BA0D-46795BBD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9B033-CE9E-40E9-8E3D-B501576D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1BFF7-BC2B-4B54-85E8-A587D778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D9D0D-0F73-4EF3-931D-E94B847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9D5B4-3B64-4259-8EE4-4CEDD0A6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490B9-D115-441A-82F0-EF877BAA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B24A8-4497-475A-9AD7-D3EC647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7799-5D60-4BD2-B51C-85359048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B5BA7-B7D6-4EAA-A4BF-5E9924E6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46282-1B3B-49D3-8F65-11BF0A1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316DF-5E22-4814-8061-DD411E7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B8055-6886-4F8D-A72B-4B507F81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03798-3123-4C05-884D-40FDB060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BE86-4C16-40E6-BA45-9D3533A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DD5F-487F-44B9-A06F-8FC6D4CC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2832-5B26-414D-84EB-BDA306E9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90DD-1AA9-4165-8C23-FBF96A08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52D1-D739-49CA-8D6A-12D5A72B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54E-0962-4CD6-952F-ECFA753D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A4FC-72AB-4A1E-8856-C78B691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8B03-905A-43DD-B27C-D76B129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C2A-8B06-49E7-A392-B13153DF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8F11-A17E-481D-9075-7ED8D6DE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F974-7A7D-4889-891E-91E2CE58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0040-2835-4295-937E-EAA67720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E6B6-3C19-47DD-9D71-8D417371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EAB9-E8A5-4606-BCB6-896B772A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9E56-6A97-4D00-B010-A18F3514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BB4C-9553-4879-A3E4-0797E380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9AB-9F1E-4946-938F-7CAC55E9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79F9-3EC9-43DC-B92C-7038F487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A8DA-91A2-4C64-AF56-4211FDE7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D5A4-0E42-48CB-91DF-6A52E8A0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BD93-DD4E-45B0-8DE1-593E2713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4EA1-48DA-4CC3-8134-C655B2D9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E5BE-638D-4DCC-A3CA-14961296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FDFF-33A7-4E6E-9326-1F0B98CF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DBFD2-3485-494B-8AE3-1F8EB5EA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06D5-9EEB-4E4A-BAE0-A7E27C1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12AE-21EB-4C4C-A919-896A241F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9CE-7B57-4561-8A0E-3B84B11F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855D-B24B-45C4-9BB5-FC534F25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DF0D0-AB2E-489F-9B09-79283426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F3500-E1AC-4140-A307-1D93E67B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010B-0451-45B5-928B-71DE579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E6EA2-BF28-46F9-81BC-25CA026A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ADE3-B1DE-479B-8930-9DCC7A0B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B50A-C8ED-4C17-996F-A0B927AF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4527-88FD-44AB-A2A2-9FABC03D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969C-4C79-4540-A8F6-AD20ACEC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92C2-8D87-4814-8722-6CD01646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9C1-DC2D-47F2-B1BE-7F943249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AD1F-C5B0-426F-89E9-A64E157F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89A71-1DB6-4C78-A1AD-18719B9F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129F-7783-4045-A645-D987E88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AADD7-B0FD-4844-A9BE-D6A510C6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2B07-971A-462C-B86A-26BBB324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2D85E-0608-4503-80FF-29C0ECBE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726F-B79E-4DEB-91B5-B7FB550C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9D65C-C8A7-4BC0-8D05-8360253E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27463-8467-488A-860B-DE42AFF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808CF-5F73-4C07-A65E-3F007485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098-47B1-43F3-9206-393F845B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4B6C2-FDF4-468A-A587-718E2EEC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577F-70F1-4ECB-AA16-1AC6DD63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77559-88B4-446D-AA9E-4BB9CCD2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3064C-FEFB-4027-83D0-2DC81AC9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6BD40-687F-4055-88AD-A272EEF4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A3E6-8E51-46E1-89F9-1EB56EF1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39F8E-D8D5-4DAE-A436-D3216C46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71149-D43B-4597-9B82-EEBFE18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285B-474B-4170-AF23-DEDFD63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C94C6-C1C9-4A3D-AFD0-78A3EEF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0A7-27A2-49FA-B932-D9BA237B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FC9B-4E5E-403B-9F08-652D9983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8D88C-B3DE-4263-83B5-EFC84B0F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90960-DDE2-4D1C-A3B4-13213A58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94DE8-36D3-4F77-A13B-8B2D587F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81C9-A3DC-4FC5-919C-B063CBE3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B6A7F-F58B-4C43-8834-81A05389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473CC-91FF-46B0-B6AA-D6BEE0D3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3A7FF-81C2-4088-838C-54108014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53F8C-7BC9-47D5-B4C5-9FBDAD2F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96CDB-4986-43D2-B608-FA9785F9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677-F8CE-4C5A-B602-3092FB1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7EEE7-64C8-431A-A692-DB123DE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0555-942D-4450-A41E-AC8367D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AE939-3E56-4B81-B372-81CCF3CA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B668-679C-4799-841B-A74670F7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383D8-3C32-48E0-944E-327FFD84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DDE82-C765-46F6-BFEC-FE7309AC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B08F2-92A2-4F30-82C0-1133A682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B4119-E98F-4704-902A-2E0A2008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2004F-5F59-406F-A74C-28948CBB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A857-E56B-485E-8FCB-A66D69C5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215-FF0A-4F12-8924-36B9A72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3B2E-83DD-4FEC-B8CC-1AAD6BEE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ECD5E-B89A-4A4C-AB7F-B53B2AB8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FF68F-F76E-4AE9-80CA-30BC4CF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2162F-77E2-4984-BB01-40E3361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75C36-9F98-4B8A-A5DA-3D6B01BB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26B3A-EDD7-4944-B7F6-2591EDB5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91E29-1F0B-4208-ADC2-7EC4235F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05215-7492-4482-A98F-97AB5CCE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A3031-50B6-4FF2-9A17-2C408D90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AAF17-62E8-4255-9807-49B3E30B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FBD-16E2-4169-968F-2C4D19890EE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ED0A-43B6-49B7-BD05-5543F1069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DABE-CD45-4F79-B8AF-5BD95A699B5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49A-C002-4336-BC2A-B57A0172F6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79DD-280B-45EB-B982-80BA97C4C38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2126-055B-40D3-B03C-337027482D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9887-7919-4EF2-9ADC-39AB02029D3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618A-7609-4DFB-8EBC-EE89B176FB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8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0E42-0D1B-43C4-9B1C-BBC6669857FC}" type="datetime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5892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6DC1-1F3E-4BB0-94C4-0FEB628EAD5E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B084-49CD-4C8E-AC7E-D29B89FA537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F6AA-AE75-4368-BB47-417836CFF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721F-318F-47D6-B94B-3D848BAA085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5D1A-8271-40B9-BD13-CC5C93B647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730F-1D8A-45DA-92EC-75659521613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2D4-F494-4898-8F35-A2EDC38A4D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066A-FC8B-4EAF-92ED-122B9C2CFED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8479-7A98-441A-A268-1330F808EB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1814-C4C4-401A-9C67-D16278FE22C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EA9-7B5E-4C42-ACC4-773DA0EC26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5D78-054A-4725-B9CC-CAD0DEC8481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C94F-A718-4DD3-9D69-86239831FE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9313-AB44-4C1C-8785-7F4473AFDE0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59EA-BB1F-4BC0-9792-6D647F01E9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ozlovaklara@csz.cz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F168-FD21-463C-8160-6F6DB2454878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8D9B-F503-4A88-94F2-D84344AE916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631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CZ.1.04/3.4.04/26.00335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046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Klára Čmolíková Coz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Arial"/>
              </a:rPr>
              <a:t>Český svaz ž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E43B-0FC8-4F2A-8B72-8BD66F62B3C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AB17-5051-4E33-B090-44E63759114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Díky za Vaši pozornost.</a:t>
            </a:r>
            <a:br>
              <a:rPr sz="4800"/>
            </a:b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Prostor pro dotaz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050560" y="406692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zlovaklara@csz.cz</a:t>
            </a: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82FE-48B1-4E5A-B086-1610717D890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34B0-08CD-41C1-9494-0B581FB1708E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79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ktura prezent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í se na genderovou lini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ení projektů ČSŽ a jejich hlavních cíl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1BAF-1692-435C-B7EC-79C15F43D767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Genderová rovnost v projekte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amotné tvoření výzev obsahuje či neobsahuje téma (vědomě či nevědomě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ční tým a 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é zaměření (zvyšování povědomí o rovnos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ímé zaměření (zaměření se na rizikové skupiny a jejich posilován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í vadí či nevadí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y ženské skupin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žský prvek a genderové stereoty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E34F-1C93-4F95-994E-DE989F2E7993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8F84-C554-47C6-9A29-FCA8676BA2D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0438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rojekty ČSŽ pro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žen při vstupu na trh práce a odstraňování bariér – Středočeský kra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4.04/26.003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genderovou lin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posílit dovednosti na trhu práce CZ.1.04/3.3.05/31.002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znevýhodnění na základě věk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62F0-9701-4143-878F-B252ADBB15BE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6C05-3FAF-4F67-A522-28100439F58C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a její specif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aměstnané ženy, registrované na ú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eny (muži), pečující o dítě do 15 let vě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ové aktivity pro cílovou skup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ítačové kurzy (základní, nadstavb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tví (sociální, právní, psychologické, kariér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á genderová rov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kendové školení aktivistek v prorodinné poli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até stoly se zastupiteli a zastupitel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Zaměření se na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125000"/>
            <a:ext cx="40402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áno projektov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aktivity jsou poskytovány ve výjezdové formě (např. v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lad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M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olesla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Berou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b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i v rámci Informačního a poradenského centra v Praze (poradenské a počítačové místnosti, zázemí projektu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9400" y="21463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Zástupný symbol pro zápatí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6. 6. 2011 Prag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Zástupný symbol pro číslo snímku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4A11-DA7F-4F9E-93D6-44DEE6A89AF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rcRect l="15583" t="32889" r="36750" b="4591"/>
          <a:stretch/>
        </p:blipFill>
        <p:spPr>
          <a:xfrm>
            <a:off x="3995640" y="1341360"/>
            <a:ext cx="5148360" cy="532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4250-06A6-4A18-AC20-EB748A118E5C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amě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700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ženy, genderově senzi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kupinky, podpora vytvoření podpůrné skupiny, individuální přís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ě si být vědomé genderových stereotypů a předsudků, nepodporovat je naopak proti nim bojovat a zvědomovat je i uživatelk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cílem je posílení vlastních schopností uživatelek k překonání období nezaměstna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Zástupný symbol pro zápatí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Zástupný symbol pro číslo snímku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1C91-72CF-460E-86C1-9837E2545AA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451D-22E0-4133-B022-15207969C36E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6553-3A08-4D5B-87C8-8C896CE0558C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5640" y="107784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áš přís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915920"/>
            <a:ext cx="819972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ividuální přístup nabízející adekvátní pomoc vzhledem ke konkrétní situaci uživatelky (včetně individuálního poradenství a vedení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ilování uživatelek ve schopnosti odhalit různé druhy diskriminace a náležitě se proti nim bránit (včetně možnosti právního poradenství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kytnout znalosti a dovednosti k tomu, aby byly schopné uspět na trhu prá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CV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četně průvodního dopis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motivační do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komunikovat s potenciálním zaměstnavatele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se připravit na přijímací řízen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33E0-206B-413D-8FA1-A95EA7291F1A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5C49-29EB-4F05-99BF-61DC34CDBB22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5640" y="119016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 legislativní zakotvení diskriminace stále existuje ve všech oblastech života, včetně zaměstnán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iskriminace je široce přijímána – jako prostý fakt, koncept diskriminace je brán za něco „doveženého“ a není pro nás téma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diskriminace se často nebrání, ani soudně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rach z výsledku a budoucnost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si nejsou jisté, jaký může mít případný soudní spor výsledek, soudní spory jsou náročné (časově, finančně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mají dostatečné informace (včetně průběhu a možností pomoci)</a:t>
            </a:r>
            <a:r>
              <a:rPr b="0" lang="cs-CZ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čná informovanost o problematice je i v širší společnosti, bohužel i mezi profesionály a profesionálka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utnost respektovat rozhodnutí uživatelk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7:06:48Z</dcterms:created>
  <dc:creator>Klára Cozlová</dc:creator>
  <dc:description/>
  <dc:language>en-US</dc:language>
  <cp:lastModifiedBy>prednaska</cp:lastModifiedBy>
  <dcterms:modified xsi:type="dcterms:W3CDTF">2011-07-27T08:04:11Z</dcterms:modified>
  <cp:revision>49</cp:revision>
  <dc:subject/>
  <dc:title>The position of seniors and people over 50 in Czech republic and advocacy services for discrimination victims</dc:title>
</cp:coreProperties>
</file>